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DC35-D79C-4345-B624-9056F932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66C1-B3B8-4BBC-BFDD-E583085F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6B486-15B1-4D8A-8945-57CCA10F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2AB5F-999A-4EC0-BA0A-A3F311DA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F7FB1-276C-409D-971C-7CA65B84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873BB1-75AA-43A0-86A4-746EF572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4450A1-5A24-41A1-AC24-125DC658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728E2-0EA9-4686-9546-6B2D8DBF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90E62-3FB5-4021-BDE5-8B6610A8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3DFD08-D85D-4AFA-BA49-A5D93F9B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9047C-758E-4E79-A6AB-38593949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B4E8CB-74B6-49C7-9393-2ADD2006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F11-9576-4A33-B994-A1366662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7A7FC-B2FA-47E7-B38C-A1490C74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0F2AEB-555A-4221-93A3-FEF8900A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DD9ED5-8FBD-4C70-81E7-353D066F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F4887C-D00A-4C25-AE85-63B3FB70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0E54B5-B8C8-4FD5-A9D5-6E551B23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5C89AE-6C4E-4A5E-ACEF-8885A8F5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4A7FC-D7CC-44B9-815B-3EC300BB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C7F0D5-180E-40EC-8C55-DCFEB6B2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41EBC-92FF-4AFD-AC50-201D7C4F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7309D-2759-478F-8302-F52878DD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D7A-B27A-4DED-B387-BD679B7F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9B4DF-8FA9-4F69-9576-6D795D99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7862D-B29C-4317-BC1C-ECFFB2B9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08C63-1565-49B9-9ABC-13F01968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DADE1-629D-4ECE-8310-98C3EC0F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189F9-1EF7-473E-BFD6-D84AEBAB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32E48-3F14-4C38-8E06-3D183E5B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DC3CD-AED7-4910-8926-2227CBA3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05870-CC62-4CBC-84DB-124F4C07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88055-0162-4482-BAF1-1CA6313E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C9F1B-E688-4C38-8E5F-3F20BDDB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B1EC-569A-43E7-B556-9F2EB99B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E3FE0-98E2-40CE-8683-44D08D3D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E6F89-5DB7-44D6-996A-25C5AF49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A390C-E2A0-4808-9E7C-D6A61A88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BBDD24-21CE-4258-B18D-6CF88240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DA409D-6F75-4411-A3A9-147F830B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CD764-7BAF-4FBB-8FCE-3FCD49D9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AB2060-830F-4C37-97F0-05C97E6C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89BD6F-AFAC-46B0-BF4F-26888515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18EE0-8C93-40A0-A9E1-EECE031A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B20C7A-6617-4188-A98D-2428C1BE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5AA5-1890-460C-8B4F-6395962F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D96221-4DAE-4E1E-963F-9D71F101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3DD24-B867-4A67-81D7-55D64130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69F1A7-489C-4DE7-8387-952A5019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EE5EB4-712E-497E-8C71-FFBC4865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47D2E1-BE67-41ED-971C-ED83ADC2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79D4-E89A-4227-A152-755AFF1E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34EB-4C58-4BA1-B1EC-ECB980F1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1A8B-5158-47C6-9093-EE014893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3DAC-E564-408F-88D6-FB132F98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897D-2446-471B-849A-FC779CBB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FFC-92E7-49C7-AC7B-15CA4240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186F-41F6-419A-9663-585CBD45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F936-0ED4-4706-8F73-8254F8BF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A8CD-B384-47DE-AE1B-2FC74FDA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E3B9-F5A8-4A92-9A28-4D0CCCF1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7A96-F9AA-4525-9F79-D2325B14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0DE46-FB23-48B0-A679-63194F9E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83296-705A-4C84-B8B9-C3847E95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E8098-6017-474C-9886-760F2929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24846-BC2E-4514-B227-72B6E1F1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6E994-6727-4480-895D-8FDC54C7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7CFD-F97B-49FB-AD1B-073E4515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FF555-AD21-41E6-8F20-E3B6B081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D42D5-11AD-452F-BDC6-C040AA61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63D04-FFCA-49DC-A234-F8ACDA9A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92D92-5445-426D-B323-BD0E382D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44CE3-D637-400F-9804-B176C2A3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D978D-ED4F-4C31-A3C2-D9B3BDF3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8D681-A16E-49AE-9158-8534EA7D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DB9D7-BF93-4549-BE89-963A8351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2C523-E3DF-42DF-B156-F9531B63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9AA5C-6E8C-4F17-A765-BECF7769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C42-0AC3-40DD-9FA3-0D49DF80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FE621-7DA4-481E-B9C4-81A1E9B8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C5FC7-4082-4517-B3A1-19EAC9B0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94560-8C89-4283-BBD6-9DB4A3EE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32835-3617-4A2A-9790-8DC7D2A1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8E7E1-4A39-40D4-84DB-65C91ED7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E556C-C609-4CA9-88BA-BB5AECA7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333B7-0A2A-4525-A3BB-8595A3BA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77E21-61D3-43B2-ABED-C380C97A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56EBB-5D54-4259-89D0-8457CBC3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465FF-4192-47CE-889F-E0883F0F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E8F9-C39F-4C52-8FBD-323B016B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00821-9761-47B7-AD45-C60AEEC6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7873B-6408-45AF-A7EB-19EB37F6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97640-0463-4AFD-AB58-F1C5E3E1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73AB1-F43A-4F00-8D82-903F3E07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079DA-9690-4D0E-8AC6-0151CB04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AF0A0-682B-4F48-BDF9-EFF5E47B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5B157-63B6-4079-A125-00AF9CB1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C5314-613E-4A95-87CF-C93EC611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53BFA-1A6F-446D-85D4-C5D7A4C7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92A65-6075-45FA-9051-94498B94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48F-A32A-44B9-9641-B01B38C6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7547B-DC83-4A97-9524-896A4DD8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7FE24-9765-4AED-961C-ABB68AC1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DC2F4-7A31-47C5-9D62-6084E203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C3363-5552-4582-A379-ACF3F32F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335A7-16BE-41A7-BD44-D24A4846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D40D8-AC25-42BC-A2BD-D1A5D711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DDF28-82C1-43FC-82C9-22C0517E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E5E2A-ABEC-496D-A51B-7075BBA0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DF9D7-B191-4A74-A1B0-3B352044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EA18B-EACB-4640-ABAD-FC6CB8BB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99DE-AB26-4C15-85B4-8CCA3D01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8C513-9ADB-44A2-8E53-5D585D9E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3798C-788C-4C19-8C5D-CC3CA132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36BA1-5B32-418D-AC87-DADE18FA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A5921-5720-4EE1-9305-E6E1D46B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89A29-E9E4-4DB6-8C7A-5459B819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72FF6-DAD0-4790-AC50-1C82E227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3684D-8877-47C2-9035-200274A9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92339-7D54-454F-8AA9-F6E20E69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73CA7-DDEE-4769-98A5-402C5FB9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2139A-FE88-420C-8EF7-2BDE1D72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8A89-76CB-4D69-BBE1-5F740C1D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53A43-B12F-476D-B3CA-620CE207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C7B63-6FB2-4840-A331-0E209564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15A38-B6E7-4D57-A8AC-2CAE47CC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05081-930F-4C42-A6B4-641614BC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6D1DF-0588-4D29-8173-64566198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0B409-1092-4668-9957-445E55DD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FAFFD-4E85-4BA4-8D33-0D64B21C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8B0C7-9511-4EEF-AB51-D69BDC0D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1071A-0DE7-4136-B3EC-709B4B76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606E6-3177-4A12-B1D1-659BA296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926-5F03-4B75-9E54-8AF35E5C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74C5F-BC2F-4854-BF9A-1E8AC76D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A7BCB-9EFD-4441-B3E0-FB511B47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5C433-BA01-48B9-88A0-87F4D9EB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7A4FE-DB9B-429C-AECE-5F98527D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28305-752D-4BF1-95DA-9583B81E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CBE30-71FB-46DE-A3F5-2A6A6896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9F441-A992-4642-B443-067C8819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E18433-8CED-4B6D-905B-D402388B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9D355-9B8C-4656-A195-E821BBED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9F7971-B1D0-47CF-B485-2DDD0743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E528-0E8E-4137-B4F2-6E721F1B6BE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D276-DC9B-48B3-B941-8CFD16333CB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E92D-F8B9-4C33-8C1D-D7F0E1D16EC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9166-24A6-4543-9307-0DB35B0650E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3326-B856-4209-B809-ADAE610D217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D63C-25DA-4EF7-ABF7-A6026315F45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CC57-07C6-4188-BCF1-0567991C23F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5D98-3D94-470A-9FAD-76830A245EA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52D3-D80B-44CB-ADCC-AF3AB3CB569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38FD-5CFF-4693-A3E9-FBA14FE24F1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1C62-E108-4A54-B690-EC3443F65DB1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21B4-BBBA-4DC3-85E6-5381FF34811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HAPTER 3, 4, 5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: CHRISTINE, MADDY, MICHELLE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Unit 1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Chapter 5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Supply and Demand: An Initial Look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PF and Supply and Deman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upply Shif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ight: suppliers are supplying more at every pri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eft: suppliers are supplying less at every pri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emand Shif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ight: consumers are buying more at every pri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eft: consumers are buying less at every pri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apter 3</a:t>
            </a:r>
            <a:br>
              <a:rPr sz="3300"/>
            </a:b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U.S. Economy: Myth and Real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haracteristics of the US Econom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Biggest economy in the world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Large populatio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Very rich: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resources, technology, and knowledg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Private enterprise economy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Majority of our factors of production are privately owned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Relatively closed economy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We consume most of what we produce and produce most of what we consume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Opennes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How much of the average imports/exports are as a percent of your GDP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Chapter 3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The U.S. Economy: Myth and Reality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fl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ustained increase in the average level of pri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cess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en Real GDP declines for at least two consecutive quart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Chapter 3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The U.S. Economy: Myth and Reality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puts and Outputs of the US econom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puts (Factors of Production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labor machinery and natural resources used to make outpu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merican work for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Outpu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oods and services that consumers to acquir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/3 of all outputs are consumer good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nsumers spend about 70% of the all the spending in GDP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Chapter 3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The US Economy: Myth and Reality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Government’s Role in Econom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Government has to act as a refere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nforce the rules of the economic gam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ttle disput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gulates business activiti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reates laws to protec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Consumers, employees, other businesses, environmen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pend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axes and redistributes income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hapter 4</a:t>
            </a:r>
            <a:br>
              <a:rPr sz="3600"/>
            </a:b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Scarcity and Choice: The Economic Problem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roduction Possibilities Fronti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 diagram that represents all of the possible combinations of goods a company can make when fully utilizing all their resourc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llustrates a trade off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traight lin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sources are not specializ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nstant opportunity cos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owed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ecialized resourc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arying opportunity cos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inciple of increasing cos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Chapter 5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Supply and Demand: An Initial Look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ifts in the Demand Curv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nsumer tastes and preferen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nsumer incom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pul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rice of related good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ice of substitute  and complimentary good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Chapter 5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Supply and Demand: An Initial Look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lementary Goo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Goods that are purchased togeth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xample: Peanut butter and jell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bstitute Goo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Goods that can be used in place of one anoth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xample: margarine and butter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Chapter 5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Supply and Demand: An Initial Look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aw of demand: consumers will buy more at a lower price than at a higher pri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aw of Supply: producers will produce more at a higher price than at a lower pri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quilibrium: where the supply and the demand curves intersec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ere QS = QD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15:47Z</dcterms:created>
  <dc:creator>Zarko.S547</dc:creator>
  <dc:description/>
  <dc:language>en-US</dc:language>
  <cp:lastModifiedBy>HP Authorized Customer</cp:lastModifiedBy>
  <dcterms:modified xsi:type="dcterms:W3CDTF">2009-01-27T22:18:04Z</dcterms:modified>
  <cp:revision>13</cp:revision>
  <dc:subject/>
  <dc:title>Unit 1</dc:title>
</cp:coreProperties>
</file>